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610-9D8C-4121-B3C3-D7D7403C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E91-D9B8-464C-B84E-17914BF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E72-7E6E-4F8C-90E9-4B17E3B1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730-0B66-4542-9342-C43CD584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6C2-2826-4D5A-A8CB-9E6CFF8E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11F-F68D-4FB2-9713-5D41740B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B64-ABFC-4540-8542-61B92AC2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826-2A7C-465C-BD34-C7EF2BD8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66E-0F7D-4324-A2AA-44B2242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5D9-FE91-418B-9B4D-2D778BB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9DC-01D2-4081-A759-FD18B50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400-A675-46D2-8E6F-46A2296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B752-B74D-4D58-87AC-DBCCB2CD8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986200">
            <a:off x="1331640" y="2349360"/>
            <a:ext cx="648000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3284640"/>
            <a:ext cx="3097080" cy="1081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5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276360" y="263700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843280" y="3284640"/>
            <a:ext cx="433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268000" y="285264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4005360"/>
            <a:ext cx="10810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8414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ident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981000"/>
            <a:ext cx="616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tal Internal Refr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ed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86064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ed here because there is no re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09:44:37Z</dcterms:created>
  <dc:creator>kidd</dc:creator>
  <dc:description/>
  <dc:language>en-US</dc:language>
  <cp:lastModifiedBy>kidd</cp:lastModifiedBy>
  <dcterms:modified xsi:type="dcterms:W3CDTF">2008-05-05T09:44:44Z</dcterms:modified>
  <cp:revision>1</cp:revision>
  <dc:subject/>
  <dc:title>Slide 1</dc:title>
</cp:coreProperties>
</file>